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776-E1B2-4920-98FC-5C21B44AB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01D2-7342-4B72-A3A5-4ABD69BBD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BCF-4F69-4CE3-A5EF-C0E38ECC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70-DF97-45B0-8EC7-31E8B64D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820-7DD5-46F5-87C0-4C475BE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E52-E024-4B98-A1C9-B31EAAD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45-14F9-4A61-98AA-BCE1E12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825-8EC6-4219-93E1-4485C060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F2F-9A19-4E40-A920-50FAEDE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100-F05E-4678-86E2-F17174AF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413-492E-400D-8392-430C642B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BAF-58DA-4F71-9290-9178FAF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390-B276-461B-A4A3-CF0C91D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E81-6444-4E02-8A83-FD56B6B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3CC-33C4-4074-8B6E-D0B1025A3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E4D-0AE2-48F1-BAF6-CD14EBA09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июн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8989-5457-4ACA-8BE5-D28632CFF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н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6-01T07:10:23Z</dcterms:modified>
  <cp:revision>151</cp:revision>
  <dc:subject/>
  <dc:title>Презентация PowerPoint</dc:title>
</cp:coreProperties>
</file>